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3B73-BBC9-4A34-85D9-B38F0F9A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C60-3410-411E-AF9F-7CF63F14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DB0-E073-4F6D-840D-032FE1D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814-1C51-4A18-9E0B-D7312846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F43-5BB6-4E9E-A106-A92A7DA7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809-48C2-42CC-B72D-B09D00F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244-47CA-40E7-B9CA-9A4DC56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6A3-5BAF-4448-A479-8AF8F26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545-4D64-4E1E-A3DD-81F5BD9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502-FB4C-4030-83D8-6637FE8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B43-83F2-4EF0-B121-81005B0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DF9-FD28-495E-9A8C-5BE5BFA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240-2EB1-4334-BD29-5E797D0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3C1-2C57-46C9-9244-3DC8DD7D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contained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2-04-19T16:43:48Z</dcterms:modified>
  <cp:revision>61</cp:revision>
  <dc:subject/>
  <dc:title>Molecular Genetics</dc:title>
</cp:coreProperties>
</file>